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0EB9-67FB-4CF2-8D31-2B2AD34F232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Based on the evidence and expert opinion, the CPG DG propo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he following follow-up schedule as shown in the following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0F85-E4F8-4509-AF8C-5DDF60EB6CA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484-4027-407F-8E0C-E3BFBE29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EEB-C214-4776-BFAE-A4D2D5F9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433-3B09-4321-BDD3-3011AB20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C2C-F184-4A4F-9F96-6B4D9903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025-7BE9-4DB0-A6DA-DE88EA2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3B8-005B-444F-A495-9B662060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48B-7EBA-4879-A1BE-A51C139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CDB-D49B-4745-9E52-6427B7B8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3D2-534F-421F-B616-D00F8DA0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694-3E94-4F95-923E-6C878D2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359-93C8-4504-A536-E1C18D0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423-821D-4A72-8194-055F853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CAF8-F127-4E6A-AAFF-6153469CF942}" type="datetime">
              <a:rPr b="0" lang="en-MY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AB5-74B0-4CF3-8BDC-C1D09F879AE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5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alibri Light"/>
              </a:rPr>
              <a:t>LECTURE 6 : FOLLOW UP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3160" y="210960"/>
            <a:ext cx="11583720" cy="28879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609560" y="33660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TRAINING OF CORE TRAINERS FOR  CPG MANAGEMENT OF RETINOPATHY PREMATURITY (SECOND E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8478720" y="2475000"/>
            <a:ext cx="3749760" cy="4054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230640" y="4494240"/>
            <a:ext cx="61164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Dr.Sakinah Su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Family Medicine Speci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Klinik Kesihatan Nil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Negeri Semb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9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F1CD-9718-4067-8DBD-E914BD6039A2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31920" y="22860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908000" y="1757520"/>
            <a:ext cx="906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Follow-up of infants with or without ROP should be done accordingly with complete eye examination base on staging and treatment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592-C211-4771-96B6-3EE2E53FE142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36720" y="2503440"/>
            <a:ext cx="9455400" cy="155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650000" y="1712880"/>
            <a:ext cx="3756240" cy="40546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E44-1530-4AE0-B59F-14C889C38A31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46280" y="2004840"/>
            <a:ext cx="92124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alibri Light"/>
              </a:rPr>
              <a:t>To learn how to follow-up infants with 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4BB8-E463-4077-B1AF-C408B352279B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38E4-BB1B-4286-A284-582A74CCF986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76160" y="1611000"/>
            <a:ext cx="9212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n RCT, which is part of ETROP, examined the prevalence of myopia and high myopia at 6- and 9-month post-term and, 2- and 3-year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</a:rPr>
              <a:t>postnatal findings. It showed 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 Light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valence of myopia at 6- and 9-month post-term were significantly higher in conventional management eyes than in early treated eyes; however, there was no difference in the prevalence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of high my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valence of myopia and high myopia were similar at 2- and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3-year postnatal in both treatment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in both treatment groups, there was an increase in prevalence of myopia over time, occurring mostly between 6- and 9-month post-term while in contrast, prevalence of high myopia increased at each successive age up to thre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6934320" y="59436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 Light"/>
                <a:ea typeface="Calibri"/>
              </a:rPr>
              <a:t>62.Quinn GE, Dobson V, Davitt BV, et al: 2008;115(6):1058-64.e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712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EFRACTIVE OUTCOME OF PREMATURE INFANTS WITH OR WITHOUT RO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322880" y="5672160"/>
            <a:ext cx="76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63. Hsieh CJ, Liu JW, Huang JS, et al.. 2012;28(4):204-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75C1-2952-4D74-BA1E-85A679D4F750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79160" y="1711080"/>
            <a:ext cx="9580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A prospective cohort study evaluated the extent to which refractive morbidity at six and 24 months of PMA is correlated to preterm birth or ROP compared with full-term infants :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 Light"/>
              </a:rPr>
              <a:t>6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 Light"/>
              </a:rPr>
              <a:t>Those with laser-treated severe </a:t>
            </a: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ROP had the highest prevalence of refractive errors during the first two years of lif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The refractive errors increased significantly across the ages and these findings indicated that monitoring on it was required for at least two yea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SE in eyes with regressed ROP and those without ROP was significantly lower than eyes of full-term infants at the first refraction (six months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844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REFRACTIVE ERROR CHANGES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IN PRETERM INFANTS WITH AND WITHOUT ROP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487-2596-462D-91F0-68F350509E11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690560" y="1711440"/>
            <a:ext cx="9796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In a retrospective observational study on changes in refractive errors in preterm infants with and without ROP in the first six years of life 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 Light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significant increase in myopia values was noted only between first and third-year examinations in the severe ROP (treated)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no significant trend was observed in the mild/no ROP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no significant trend in astigmatism and anisometropia seen in both mild/no and severe ROP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64. Kaya M, Berk AT, Yaman. 2018;38(4):1681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6844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ISK FOR ROP-RELATED COM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006-37C4-49C2-BB7A-9C9DFD5BB106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1690560" y="1711440"/>
            <a:ext cx="9796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A recent retrospective study in Taiwan showed that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Arial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approximately one-third of ROP eyes with spontaneous regression or anti-VEGF injection exhibited persistent avascular retina when the children reached school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atients with regressed ROP have long-term risk for ROP-related com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arental counselling with regard to this complication is essential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65.Ling XC, Kang EY, Huang JL, et al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.2023;3(3):100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FOLLOW UP SCHEDULE FOR RO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D22D-5216-4F2F-BD16-98B7FDA82E74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528920"/>
          <a:ext cx="9574200" cy="4954320"/>
        </p:xfrm>
        <a:graphic>
          <a:graphicData uri="http://schemas.openxmlformats.org/drawingml/2006/table">
            <a:tbl>
              <a:tblPr/>
              <a:tblGrid>
                <a:gridCol w="4210200"/>
                <a:gridCol w="5364000"/>
              </a:tblGrid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OUTCOMES OF 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FOLLOW-UP AND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no 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VA at 4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spontaneous regression and fully vasculari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VA at 4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3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treated with laser photocoagulation or anti-VEGF and fully vasculari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yearly examination until 5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 laser treated infants, baseline visual field assessment may be performed based on the discretion of the treating ophthalmolog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P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gular follow-up at the discretion of the ophthalmologist with the possibility of fundus fluoresceine angiography (FFA) and laser photocoag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2" name="TextBox 9"/>
          <p:cNvSpPr/>
          <p:nvPr/>
        </p:nvSpPr>
        <p:spPr>
          <a:xfrm>
            <a:off x="160200" y="6451560"/>
            <a:ext cx="102711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*consists of VA, alignment, nystagmus, cycloplegic refraction and dilated fund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9982080" y="64292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Page 24 of C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DC61-8A2B-414F-9DC7-5D30C244E45E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693720" y="284040"/>
            <a:ext cx="108885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6400" y="282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RECOMMENDATION FOR FOLLOW U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14240" y="2568600"/>
            <a:ext cx="10639440" cy="283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BB2A-FBC8-4AEA-BD62-324309D91AFB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30T01:09:00Z</dcterms:created>
  <dc:creator>Arifah Nur Yahya</dc:creator>
  <dc:description/>
  <dc:language>en-US</dc:language>
  <cp:lastModifiedBy>Karen Sharmini</cp:lastModifiedBy>
  <dcterms:modified xsi:type="dcterms:W3CDTF">2024-11-26T01:58:53Z</dcterms:modified>
  <cp:revision>32</cp:revision>
  <dc:subject/>
  <dc:title>TRAINING MODULE CPG MANAGEMENT OF ROP 2nd EDITION : FOLLOW UP AND REHABILI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C9D3D3B97FF413095C89F22C25EB1B3_13</vt:lpwstr>
  </property>
  <property fmtid="{D5CDD505-2E9C-101B-9397-08002B2CF9AE}" pid="3" name="KSOProductBuildVer">
    <vt:lpwstr>1033-12.2.0.17545</vt:lpwstr>
  </property>
</Properties>
</file>